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1A89-C573-44FC-A53F-F564900FE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F173-62CE-4C2B-8713-87BBF3C9D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B9D9-363D-4CDD-BB1F-2D369BB06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3098-6F59-4B20-A01D-5DF21CC78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7C0-7EF8-42C8-A3C8-636CF831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6D5-DF9A-46F2-9C3B-9E3A8D92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23C-1839-4BE1-9F3E-C30022C8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ADC-BE52-4E27-B05C-F51205FC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DEF-E4A1-4881-980B-8F7B0156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C69-AA89-47FA-A232-22F57540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992F-3C8B-42AB-B59C-DC53B143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D79-E060-404B-8338-0FCB92D6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55C-C7AB-4D38-98FB-D39766A1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C883-4324-4D03-952D-CCABF299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7FA-2EA0-42CB-96D6-63A1F7E3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1811-83AE-4D2D-B8B3-D173CFCC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7713-C35F-40B1-8788-7CEC5A7A4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рнаеста недеља наставе,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09 ТОКСИКОЛОГИЈА – КЛИНИЧКИ, ЕКОЛОШКИ И ЕКСПЕРИМЕНТАЛНИ АСП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ф. Слобод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нк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ровање водоник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лфидом (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азива иритацију дисајних путева и инхибира цитохром а3 оксидаз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 организму се ензимским и не-ензимским путем метаболише до тиосулфата и полисулфи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ад се веже за метхемоглобин, настаје нетоксични сулфметхемоглоб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и концентрацији од 200-300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pm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 настаје оштећење плућ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еко 500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pm, H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азива системске ефекте – губитак свести и застој ср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ровање водоник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лфидом (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еживели имају одложене неуролошке секвеле: губитак меморије, дезоријентација, делиријум, деменција, слабљење слуха, губитак вида и аносмија, тремор, ригидитет (демијелинизација субкортикалне беле масе и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Globus pallidus-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отвара митохондријалне поре, услед чега долази до отока митохондрија и смрти неуро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јагноза тровања 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-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олесник заудара на укварена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кит од сребра там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аболичка ацидоза и пораст лак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нцентрација сулфида у пуној крв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ћа од 0,05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g/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ње тровања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-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00% кисео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штачка вентилација с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EEP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ом, ако је дошло до акутног оштећења плу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исталоиди због хипотензије, бикарбонати због ацид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3%, и.в., током 2-4 минута, 1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ербарична терапија кисео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тријум и амил-нитри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антидоти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sr-C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и амил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трит претварају хемоглобин у метхемоглобин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 хема прелази у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Цијанид се везује јако за метхемоглобин, и тако ослобађа цитохром-оксидаз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нтравенска примена 300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натријум-нитрита ствара 10-18% метхемоглоб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мил-нитрит је далеко мање ефикасан, па се даје пацијенту да га удише само док не припремимо интравенску инјекцију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; поломи се ампула, и стави под нос 15 секунд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тријум и амил-нитри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антидоти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sr-C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(3% раствор) се даје и.в., 10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(300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), брзином 2,5-5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. Може се поновити ½ ове дозе ако се стање болесника не поправља, или превентивно, после 2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оза за децу: 0,2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l/kg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(6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), и.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сле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треба одмах применити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тиосулфат; може кроз исти венски катет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е треба примењивати ако је пацијент већ у значајној мет- или карбокси-хемоглобинемији (нпр. после инхалације дим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aNO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изазива вазодилатацију и хипотензиј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тријум - тиосулф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умпор из натријум тиосулфата се везује за цијанид уз помоћ роданазе, и ствара тиоцијанат, који није токсичан, а елиминише се филтрацијом у бубрези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тиосулфат продире у ћелије, али се слабо апсорбује после оралне примене. Време полу-елиминације је око 3 са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оже за 3 минута да конвертује више од 50% цијанида у тиоцијан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тријум - тиосулф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аје се 12,5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(50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25% раствора) и.в., као болус или инфузија; може да се понови ½ ове дозе ако се стање болесника не поправља, или профилактички, после 2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оза за децу: 0,5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g/kg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(2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g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25% раство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аје се заједно са натријум нитритом и хидроксикобаламин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епоручује се превентивна примена 0,5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тријум-тиосулфата пацијентима који су истовремено добили 50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g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тропрусид-натрију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идроксикобала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2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прекурсор витами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зу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групу уместо сво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= 1.2 – 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d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= 0.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/kg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62% дозе се излучи у урину за 2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је се код тровања цијанид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за је 7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g/kg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.в., током 30 минута. Може се поновити, до максимално 15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Хидроксикобала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је се заједно са натријум-тиосулфатом и натријум-нитри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 дават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H-B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натријум-тиосулфат кроз исти венски катетер, јер се везују један за други и инактивира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H-B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може да пребоји црвено слузокоже, плазму и мокраћ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 цијани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ош 1782. године шведски хемичар је изоловао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C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да би од њега страдао 4 године касн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ви је Наполеон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користио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C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као бојни отров; коришћен је и 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ветском рату. 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ветском рату нацисти су га користили у гасним коморама, под називом </a:t>
            </a:r>
            <a:r>
              <a:rPr b="0" lang="sr-CS" sz="2800" spc="-1" strike="noStrike">
                <a:solidFill>
                  <a:srgbClr val="000000"/>
                </a:solidFill>
                <a:latin typeface="MS Reference Sans Serif"/>
              </a:rPr>
              <a:t>„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yклон Б</a:t>
            </a:r>
            <a:r>
              <a:rPr b="0" lang="sr-CS" sz="2800" spc="-1" strike="noStrike">
                <a:solidFill>
                  <a:srgbClr val="000000"/>
                </a:solidFill>
                <a:latin typeface="MS Reference Sans Serif"/>
              </a:rPr>
              <a:t>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тхемоглоб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тхемоглобин настаје када се Fe</a:t>
            </a:r>
            <a:r>
              <a:rPr b="0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из хемоглобина оксидише у Fe</a:t>
            </a:r>
            <a:r>
              <a:rPr b="0" lang="sr-CS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емоглобин има 4 полипептидна ланца, и сваки носи по један хем. Гвожђе у њему је везано са 4 координатне везе з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атоме протопорфиринског прстена, а са петом везом за хистидин из пептидног ланца. Шеста координативна веза служи за пренос кисеоника; ако је гвожђе оксидисано у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исеоник се не може веза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етхемоглобин се стално ствара под утицајем оксидативних средстава, али се враћа у хемоглобин дејством два ензимска систе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DH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из гликолизе, уз помоћ ензима метхемоглобин редуктазе (цитохром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5 редуктае), претвар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јући му електр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DPH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 хексоза-монофосфатног пута разградње глукозе (Ембден-Мејерхофов пут), тј. из реакције дехидрогенације глукозо-6-фосфата, може да претвори метилен-плаво у леукометилен-плаво. Леукометилен-плаво затим редукуј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ј. регенерише хемоглоб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зро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хемоглобин под дејство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D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истема спонтано прелази у хемоглобин: т 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</a:rPr>
              <a:t>½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кови и друге супстанце које изазивају метхемоглобинемиј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три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нзока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п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дока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троглице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лорокин и прима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лфонам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илинске боје (ципеле, маркер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ана са нитра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нарска вода са нитри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фта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 удисању д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еца и метхемоглоб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ца млађа од 4 месеца су посебно осетљива на метхемоглобинемију, јер им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DH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истем регенерације хемоглобина није још успостављ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то не смеју да пију бунарску вод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наци и симпто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висе од нивоа метхемоглобина; тежи се јављају кад је метхемоглобин &gt;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јаноза кад је метхемоглобин &gt;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хемоглобин отежава дисоцијацију кисеоника са хемоглобина, па се јављају знаци хипокс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м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лавобољ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испне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ахикард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етаргија и ступ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ртоносни ниво је &gt;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ртеријска крв има чоколадну бо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 метхемоглобинем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ична пулсна оксиметрија није поуздана код метхемоглобинем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ристити ко-оксиметре, који истовремено мере и сатурацију хемоглобина  и метхемоглоб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Метхемоглобинемија и хемоли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 супстанце које изазивају метхемоглобинемију, могу у већим концентрацијама изазвати и хемоли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ксидациона средства денатуришу протеин хемоглобина, и доводе до његове преципитације у Хајнцова телашца; такве еритроците препознају макрофази у слезини и лизирају 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Лечење метхемоглобинем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блажих облика само уклонити уз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је ниво метхемоглобина &gt;25%, или ако има симптоматологије, применити метилен-плаво: 1-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g/k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.в., током 5 минута (0,1 – 0,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1% раствора). Одмах по примени пропрати вену са 15-3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течности, да се избегне бол због надражаја ве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 давати никад више од 7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g/k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метилен плавог, јер онда може доћи до хемолизе (метилен-плаво је такође оксидационо средств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Метилен-пла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ежељена дејства метилен-плавог:            печење у устима, плава пребојеност коже, слузокожа и мокраће, дизурија, парестезије, премор, стр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Ефекат настаје за 30 секунди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етилен-плаво није ефикасно код болесника са урођеним дефицитом глукозо-6-фосфат дехидрогена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ко болесник не реагује на метилен-плаво, применити хипербарични кисеоник или ексангвинотрансфузиј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апсон – посебан случа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 је метхемоглобинемија изазвана дапсоном, може се спречити и лечити применом циметидина, лека који инхибира цитохром Р450 и спречава претварање дапсона у јаче оксидационо средство, хидроксиламин-дапс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улфхемоглоб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мпор се веже за хем, али не з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што је то јак пигмент, цијаноза се јавља у концентрацији сулфхемоглобина од само 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лфхемоглобин је екстремно стабилан, и нестаје тек кад се еритроцит разг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је опасан, јер олакшава дисоцијацију кисеоника са хемоглоб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е супстанце које изазивају метхемоглобинемију, могу изазвати и сулфхемоглобинем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 постоји антидот, али обично и нема потребе да се л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настаје тровање цијанидим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ијанид се удише заједно са димом при сагоревању вуне, свиле, синитетске гуме и полиурет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ијаногене хемикалије (ацетонитрил –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акрилонитрил –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 се у организму претварају у цијан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коштицама кајсија и бресака има цијаногених гликоз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тропрусид-натријум ослобађа цијан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О угљен-монокси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ровање је често, око 5000 годишње у СА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је мање густине од ваздуха (0,96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рзо се апсорбује после удисања и везује за хемоглобин, стварајући карбоксихемоглоб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оценат карбоксихемоглобина се може проценити на основу концентрације у ваздуху који се удиш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% = 100/[1 + (643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pmC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има 200 пута већи афинитет за хемоглобин од О</a:t>
            </a:r>
            <a:r>
              <a:rPr b="0" lang="sr-C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Веза CO и хемоглоб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већи део унетог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е веже за хемоглобин (85%), а мало за миоглобин (1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 може истиснути са хемоглобина применом О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дисањем обичног ваздух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е елиминише за 300 мину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дисањем 100% кисеоник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, C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е елиминише за 60 мину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исањем кисеоника у хипербаричној комори,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CO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е елиминише за 20 мину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атофизиолог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омета транспорт кисеоника до ћелија, јер се кисеоник слабије везује за карбоксихемоглоб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ива дисоцијације О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е помера л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директно инхибира цитохром оксидазу у митохондриј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води до пероксидације липида у мозгу, што је разлог неуролошких секв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имптоми и знаци тровањ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лавобоља, вртоглав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таксија, синк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таболичка лактацид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жа боје трешње (само код тешких трова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јава була на ко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ритмије или инфаркт миока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Одложени неуролошки дефек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ле луцидног периода од 2-40 дана, јављају се неуролошки дефекти, мада се већ после 1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могу видети разређења 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lobu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allidus-u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скен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уролошки дефекти могу бити: деменција, амнезија,психоза, парализа, хореа, паркинсонизам, кортикално слепило,  апраксија, агнозија, инконтиненција и периферна неуропат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 тровања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-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рење ниво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bC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 нормално је до 5% (код пушача и до 1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д особа са хемолитичком анемијом ниво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bC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такође може бити повишен, јер с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ослобађа приликом трансформације протопорфирина у билируб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улсна оксиметриј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bC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репознаје као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b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таболичка ацид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 тровања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-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ишен ниво лак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ишена креатин-кин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уролошки дефекти се процењују на основу неуролошког прегледа и Мини-ментал т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T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откривају разређења базалних ганглија већ после неколико час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Лечење тровања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-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барични кисеоник је терапија изб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барична терапија спречава липидну пероксид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барична терапија је индикована к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суства ко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гог излагањ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аболичке ацидо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такс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ања синко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баричну терапију треба применити што пре, а има смисла дати је до 24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у једној ку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се не располаже са хипербаричном комором, применити 100% кисеоник преко маске са једносмерном валву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ровање метилен хлоридом (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sr-Latn-C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sr-Latn-C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о је органски растварач који се користи у производњи аеросола, пластике, филмова, скидању боје и обради хра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 јетри се на цитохрому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450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метаболише до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оцес је спор, па се максималне концентрације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HbC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постижу у крви после 8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(и до 10-50%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HbC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ма исте симптоме и знаке као тровање с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Лечи се хипербаричним кисеоник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Хипербарични кисео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стоји се од удисања чистог кисеоника под притиском од 2-3 атмосфере, током 2-8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иже се артеријски притисак кисеоника од 200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mH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а атмосфера више повећава количину раствореног кисеоника у крви за 2.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/10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2.2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ејство н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организ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ртоносна доза KCN је 20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ртоносна концентрација у ваздуху HCN-а је 270ppm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MS Mincho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MS Mincho"/>
              </a:rPr>
              <a:t>g/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оксификација цијанида се одвија преласком у нетокс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 тиоцијанат (CSN), под дејством 2 ензи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55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оданазе (тиосулфат-цијанид сулфтрансфераз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55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ета-меркаптопируват – цијанид сулфтрансфераз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оцијанат се елими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ури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Ефекат хипербаричне терап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Хипербаричном терапијом се постижу два ефекта: смањује се волумен раствореног гаса у крви (значајно код ваздушне емболије и болести декомпресије) и повећава количина кисеоника раствореног у плаз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Хипербарични кисеоник повећава стварање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у организму, што смањује адхезију неутрофила (због ослабљене функције бет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инитегрина на мембрани неутрофила), а тиме и оштећење ћелија код реперфузије мозга, тровањ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 декомпресионе болести 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Хипербарични кисеоник се користи за лечењ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овањ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овања метилен-хлори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овањ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овањ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овањ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–ом (спречава његову конверзију у токсичније метаболит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тхемоглобинем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Мере опр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д се болесник излазе хипербаричној терапији, морају се затворити сви катетери који су слободни, да ваздух не би уша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дотрахеални тубус – његов каф се мора испунити в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ће је да дође до прскања бубне опне, па се притисак у средњем уву мора изједначити, било природно или са тимпаностомиј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оји и ризик од конвулзија, оштећења плућа и оч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тофизиолог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ијанид инхибира многе ензиме, а посебно цитохром оксидазу (цитохром а3), чиме се онемогућава ћелијско дисање и стварање АТП-а. Настаје пораст млечне кисел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ијанид посебно токсично делује на централни нервни систем, јер тамо доводи до ослобађања глута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имптоми и зна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мптоми почињу неколико секунди од инхалације, и неколико минута после ингест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утни симптоми и знац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лавобоља, анксиозност, агит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фузија, летаргија, конвулзије, к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хипнеја, па брадипне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адикардија и хипотензија (могућа је пролазна рефлексна тахикард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 се унесе орално, делује корозивно, па изазива бол, муку, повраћање (хеморагички гастрити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жа је боје трешње, због веће сатурације венске крви кисео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болесник преживи, развија се постепено Паркинсонова болест, због оштећења базалних ганг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ронична изложеност доводи до амблиопије, неуропатије и хипотиреозе (тиоцијанат омета улазак јода у тироиде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цидоза, пораст лакта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исока сатурација венске крви кисеоником (&gt;90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вишена концентрација цијанида у целој крви (50% се налази у еритроцитима); нормалне вредности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е концентрације су 0,02–0,5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MS Mincho"/>
              </a:rPr>
              <a:t>μ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MS Mincho"/>
              </a:rPr>
              <a:t>g/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ма настаје кад је концентрација већа од 2,5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MS Mincho"/>
              </a:rPr>
              <a:t>μ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MS Mincho"/>
              </a:rPr>
              <a:t>g/m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ењ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кисео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трити + тиосулфат + хидроксикобалам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тријум-бикарбонат, инфузије 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сти и вазопрес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ни угаљ ипак треба дати код оралног тро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ровање водоник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лфидом (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настаје у процесу труљења органске материје, при дестилацији петролеја, у производњи асфалта и природног г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овање је рет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2003. године је у Кини приликом бушења гаса изашао облак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који је усмртио 200 људи, а отровао 9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c00000"/>
              </a:buClr>
              <a:buSzPct val="150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је гас без боје, гушћи од ваздуха, заудара на укварена ја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1:12:06Z</dcterms:created>
  <dc:creator>user1</dc:creator>
  <dc:description/>
  <dc:language>en-US</dc:language>
  <cp:lastModifiedBy>Slobodan Jankovic</cp:lastModifiedBy>
  <dcterms:modified xsi:type="dcterms:W3CDTF">2013-01-27T11:40:37Z</dcterms:modified>
  <cp:revision>28</cp:revision>
  <dc:subject/>
  <dc:title>Slide 1</dc:title>
</cp:coreProperties>
</file>